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23.wmf" ContentType="image/x-wmf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F60-DE42-48CB-B3F6-FDBC63D4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BBB-87C0-455B-B11A-AF5188B3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F44B1-31EC-4062-BE8F-3A121659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FAFC2-91EE-4EF2-958E-0602CB99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A5F05-9665-4034-83F8-9DC4F8A2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086F3-ECD1-4AC7-92C7-9AECC586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A1F13-DB0A-4E7E-9C53-8023B497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88682-613E-4EB8-A538-1982A390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A90CA-F598-43FA-BBD2-8728F6D5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8555C-FAA0-4A12-A1D4-08ADDE89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630E1-73F0-42BA-8D28-E3241A3B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3FD98-E191-4A70-AD61-D92DEBB0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F79-70BF-4CD7-BD27-4374F4BE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32B4C-83FF-4CB9-B683-B8C3D0D1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D1AB1-1C27-4087-BD49-355A08F2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65FFB-A4E0-4A7F-A7A2-7B31B081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C0FEC-71A0-4A10-83C7-BD586DCC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FE143-5F23-4844-AE0F-1E1FE015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976B6-828F-40E9-8C4A-0105BAED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4ECC1-864F-4CA3-837F-21517263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5F121-495B-4747-9952-8327E499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0BEFF-6F33-4337-9D27-8E31B9FF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2489D-1BA3-454D-A51C-FB270816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95B-9BE7-4ABE-B5CB-14497846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5FA69-B07A-4382-B1F1-F316D8C4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00495-567E-4EC4-A2E6-28D74026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6B5C7-B982-4091-96FA-F9095890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C8B5A-90C5-4B53-BB9D-38482C39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73D47-EEA7-4FF6-A5C0-B8328D57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721C9-7297-439C-BED8-A8878731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92D48-CB2A-4583-B54A-9A06ADB6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E675B-B334-449D-995A-26CA407E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8E7FF-8625-4F95-9863-C19538C5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826D6-5746-46AE-A2F6-894F1BD1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EC44-ACC1-4E20-8C2C-C891F12C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22CC9-4A23-4DDB-80EB-D1C90D8B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CAE61-5ED1-4DAD-B74D-5809E7C1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D04AB-C68A-4222-AE7E-77EC923F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80F81-1C80-40A4-BA0B-0111CF57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8DFEB-424D-4528-BE3E-3C50C58D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4034B-D2FC-4EBA-B739-1DE5665A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8DCE7-1B2D-40BD-AA7C-FE99D6E2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951E8-E9F2-4768-97C5-30BBC497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07E7A-360A-4324-A010-1790D755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50920-6D9B-4AA3-9D54-47FBC62F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0FEE-DE9A-49AD-A339-854A22C6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62B1D-03CA-4411-BECD-4D8553F2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428DA-71B1-4CCB-8F87-760D0AFA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1647D-0FDA-4992-81AC-98872AA6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CE588-DFC7-40A3-8F00-C6507759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316BE-0101-4D42-91DD-DADF6156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B961-A943-4F7F-B045-8ABB8732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88DE-F577-4C87-B8C6-F7F29CE6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848C-DCB0-4D3D-9004-45D1F6F1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1A73-1B6D-4543-B353-6D6DF60D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E49D-0D78-4B7A-8F4D-55115B98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CAD-97BB-4C83-9E91-AE116CDC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FC7F-AB06-47BD-853E-C2CF4931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BB78-BC70-44CC-8B66-7CFEE895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44FA-FD52-47E8-91D1-31EFEDE3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694C-8F8E-4B8C-9A4B-F3079A0A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DF25-F5B5-47B0-9227-4F6F2245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9AB46-AA02-458A-8325-E80A51A0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FE074-5F97-4283-8135-3DB5FBFA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8A95-87F1-4923-924B-493AC9BA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5CCA1-3AFC-4901-9647-340B2792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56A6A-983E-4380-B729-7C6A9F52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E455-1222-4E4B-BDBB-D6F557B6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BBD4A-81AA-481A-89A3-86F230C0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58888-FBFA-4AE1-9AA7-6C4FA2F4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84D31-0E48-462F-8E03-B72B40B7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28BD-B965-444E-9EC5-10372F4F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6ED88-6A9C-448E-84B0-D6319D0D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36A4F-3AD4-4CD7-BA83-FA6340DB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B1BCC-F4C9-497E-AB6A-D4AA7AD7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8CE0F-092F-47D9-B6BC-D26064FD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6411E-521E-4C8A-B283-7265471D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81BFD-F45D-4A0C-ACB2-1EC1891A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DDA-0CBC-4BE1-A447-78437912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8D9C5-84B5-4BF7-A072-B3DF76DF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83C9D-96CC-427B-9169-EE8990F0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4829E-C312-4E0D-92FE-9D0E4704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F7296-4CB1-474D-8FF0-19F60D6F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ACA4-FC2C-4BAE-AF57-E5F63466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7932D-4B2E-45BA-ACCB-695931A2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0ECEE-ABE0-483D-BD1B-83926306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125FD-C42F-4C65-9664-F412251A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04A3D-59A5-42B1-81D7-F7C02E40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A022B-5D69-4BAF-8921-204EB5EE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42E-A7A9-43B3-9366-42137F8B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9D54C-2674-4669-B3E4-FAAB94EA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7C265-A5CD-472B-8C0B-2AF6A1D4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D7E20-4B67-4ED5-850C-8906FF58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FDF35-5B64-46AD-9D02-0BB4AE15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C7644-28B7-48D3-83EF-DF70686A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E83A3-616A-4762-BA1E-BDD9372A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E356F-0959-4960-9FE5-0462CD70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D2453-6282-414D-B22F-D2464AEE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73BB3-EC94-4ECC-AA65-0D6C8DEC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BB8EF-FF03-44DB-9944-9780D5DD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72C-CC2D-4F0C-BFCF-620A6904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55DC8-715A-4A39-ACE6-F74AD850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7D9E5-AFDD-4F32-BF49-B7588FB1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97C5F-62A8-4457-BB6C-D6D7ED64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64292-F34E-4D19-82B8-B116E93A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D583D-9E73-4F21-A5D8-B789B7B7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7DF3C-37F9-4473-A464-CBB44828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AB0B0-31E0-4FEC-83A1-88EDFB93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B97E9-2280-4209-879C-2D9EB5A7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F4274-476A-46D2-90B5-B06ACB08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4AD94-C173-4C1C-9F87-E2CF131F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6E2-9838-47B9-B34C-98EC057C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60FF0-A981-4E94-B5B6-1D3BB1CA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1C6D5-9C63-4644-857A-F4E8059F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5E567-D302-420D-954A-A199DC1B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118BA-0B65-4A8F-9FEC-1F3062E9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9D4C2-9E72-4EDC-B959-170562CB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C1E76-F40D-4C46-B923-5D3BF9FF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58ABB-8198-40F2-AF60-56E3CEC0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6261C-5298-456F-96A3-84295706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B9C87-8422-4D46-83ED-92633D5F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AC362-D03B-4068-835D-058B9778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31E-89E7-449C-A739-A7E7C2ED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49502-7DCA-4B4A-A7CE-3AC616F2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52AC7-95E9-43B1-B65B-D82D44DD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A37A5-6C9F-4A30-A065-7F320316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5B240-6E92-451C-B815-A5B9C0AB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93692-2B4B-40FD-9193-50C125CD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1BA7D-45A0-47F7-8971-1AE64ABB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DE6CF-76CC-495D-858F-BCF15772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A8382-D311-4671-AE98-BA5DA9DF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E92F9-4E26-41FA-A8C2-3F7FEEF7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DFAF8-F8BE-4BFD-A588-8C846063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260-3CEA-41D3-A220-06EC79B4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7E859-7972-470C-9A51-1B6574F9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5CF66-46F6-4F6D-A8AC-BB787F67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72EA1-D281-4B34-9613-B5DF44F1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1EDEF-6760-4649-9A14-003DB7A5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00016-CD1E-4F5E-A0AB-9926E49D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A05B9-2C3E-4DA9-872A-33523FCB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D1FB8-971E-41BE-995C-D9882C99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9A157-C124-4294-95D7-B84A2628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A6E9F-FA7B-41FF-94F8-CC7AC64E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3EE6E-A3F0-4A76-BE37-7AB468C2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D030-4F33-425B-89B1-7CD1B9726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A7F2-1BC3-4DBC-A770-D4604FEE2F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7162-FF78-4C6B-BE78-25B3F15D55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E182-41E4-4F49-9B2A-F5BFFE9D7B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CC86-621E-4DEE-B29C-B223E7148B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8197-5165-4C6B-B00B-13B8AE2308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F497-D50A-445C-BC5A-285A696C97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3940-8BB8-4EF2-9753-242C4F1700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6221-C7B0-4196-B07D-C1EC1FDCD9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A8D0-9DFC-4C2D-967C-60D032B216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3F1B-5601-4CFD-A158-8F4185FE06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E876-7160-41F5-8792-31EB95EB8CE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14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4"/>
          <p:cNvSpPr txBox="1"/>
          <p:nvPr/>
        </p:nvSpPr>
        <p:spPr>
          <a:xfrm>
            <a:off x="1368360" y="1197000"/>
            <a:ext cx="662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四时田园杂兴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468360" y="4217760"/>
            <a:ext cx="8424720" cy="520560"/>
          </a:xfrm>
          <a:prstGeom prst="rect">
            <a:avLst/>
          </a:prstGeom>
          <a:solidFill>
            <a:srgbClr val="92d050">
              <a:alpha val="4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时田园杂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作者是范成大，共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，田园诗是中国古代诗歌流派，以反映农民生活、描绘农村自然景物为主要内容。代表人物有陶渊明、王维、孟浩然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5a1ecfa70ddfff759152ee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6" name="WordArt 3" descr=""/>
          <p:cNvPicPr/>
          <p:nvPr/>
        </p:nvPicPr>
        <p:blipFill>
          <a:blip r:embed="rId2"/>
          <a:stretch/>
        </p:blipFill>
        <p:spPr>
          <a:xfrm>
            <a:off x="384120" y="146160"/>
            <a:ext cx="2206800" cy="10922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4"/>
          <p:cNvSpPr/>
          <p:nvPr/>
        </p:nvSpPr>
        <p:spPr>
          <a:xfrm>
            <a:off x="1219320" y="1905120"/>
            <a:ext cx="982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676520" y="19810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826920" y="14130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围绕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耘田绩麻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想象，农民们除了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耘田绩麻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还要干些什么活？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1219320" y="3355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插秧、收割、犁地、施肥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…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792000" y="4076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诗歌的前两句描写了什么情景？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1008000" y="494172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村里农民劳动的繁忙景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5a1ecfa70ddfff759152ee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762120" y="12794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想象范成大见此情景会对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村庄儿女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说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09480" y="3429000"/>
            <a:ext cx="792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辛苦、勤劳、各有各的本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5a1ecfa70ddfff759152eeb3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074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3"/>
          <p:cNvSpPr/>
          <p:nvPr/>
        </p:nvSpPr>
        <p:spPr>
          <a:xfrm>
            <a:off x="61128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童孙未解供耕织，也傍桑阴学种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2010042733286111"/>
          <p:cNvPicPr/>
          <p:nvPr/>
        </p:nvPicPr>
        <p:blipFill>
          <a:blip r:embed="rId2"/>
          <a:srcRect l="0" t="0" r="48832" b="0"/>
          <a:stretch/>
        </p:blipFill>
        <p:spPr>
          <a:xfrm>
            <a:off x="4716360" y="1413000"/>
            <a:ext cx="4038840" cy="39132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468360" y="1413000"/>
            <a:ext cx="3809880" cy="39132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570" name="Text Box 6"/>
          <p:cNvSpPr/>
          <p:nvPr/>
        </p:nvSpPr>
        <p:spPr>
          <a:xfrm>
            <a:off x="501480" y="537372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小孩子还不懂得从事耕田织布的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324000" y="6093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也在靠近桑树的阴凉处学大人的样子种瓜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5a1ecfa70ddfff759152ee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3" name="WordArt 3" descr=""/>
          <p:cNvPicPr/>
          <p:nvPr/>
        </p:nvPicPr>
        <p:blipFill>
          <a:blip r:embed="rId2"/>
          <a:stretch/>
        </p:blipFill>
        <p:spPr>
          <a:xfrm>
            <a:off x="231840" y="176040"/>
            <a:ext cx="1450800" cy="10432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4"/>
          <p:cNvSpPr/>
          <p:nvPr/>
        </p:nvSpPr>
        <p:spPr>
          <a:xfrm>
            <a:off x="1219320" y="1905120"/>
            <a:ext cx="982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676520" y="19810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84360" y="119700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们喜欢这些小孩子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7"/>
          <p:cNvSpPr/>
          <p:nvPr/>
        </p:nvSpPr>
        <p:spPr>
          <a:xfrm>
            <a:off x="1116000" y="1989000"/>
            <a:ext cx="1752480" cy="10670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1362240" y="2060640"/>
            <a:ext cx="16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勤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9"/>
          <p:cNvSpPr/>
          <p:nvPr/>
        </p:nvSpPr>
        <p:spPr>
          <a:xfrm>
            <a:off x="3419640" y="1917720"/>
            <a:ext cx="1752480" cy="1066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3419640" y="20606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怕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1"/>
          <p:cNvSpPr/>
          <p:nvPr/>
        </p:nvSpPr>
        <p:spPr>
          <a:xfrm>
            <a:off x="1100160" y="3262320"/>
            <a:ext cx="1752480" cy="1066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2"/>
          <p:cNvSpPr/>
          <p:nvPr/>
        </p:nvSpPr>
        <p:spPr>
          <a:xfrm>
            <a:off x="3476520" y="3333600"/>
            <a:ext cx="1752840" cy="10670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3"/>
          <p:cNvSpPr/>
          <p:nvPr/>
        </p:nvSpPr>
        <p:spPr>
          <a:xfrm>
            <a:off x="5651640" y="1917720"/>
            <a:ext cx="1752480" cy="1066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4"/>
          <p:cNvSpPr/>
          <p:nvPr/>
        </p:nvSpPr>
        <p:spPr>
          <a:xfrm>
            <a:off x="5780160" y="3262320"/>
            <a:ext cx="1752480" cy="1066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5705640" y="206064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爱劳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346040" y="3573360"/>
            <a:ext cx="15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好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3708360" y="357336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可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8"/>
          <p:cNvSpPr/>
          <p:nvPr/>
        </p:nvSpPr>
        <p:spPr>
          <a:xfrm>
            <a:off x="6070680" y="3497400"/>
            <a:ext cx="16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天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9"/>
          <p:cNvSpPr/>
          <p:nvPr/>
        </p:nvSpPr>
        <p:spPr>
          <a:xfrm>
            <a:off x="466560" y="4724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诗歌的后两句描写了什么？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0"/>
          <p:cNvSpPr/>
          <p:nvPr/>
        </p:nvSpPr>
        <p:spPr>
          <a:xfrm>
            <a:off x="611280" y="558972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们的童真童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4"/>
          <p:cNvSpPr/>
          <p:nvPr/>
        </p:nvSpPr>
        <p:spPr>
          <a:xfrm>
            <a:off x="2771640" y="3068640"/>
            <a:ext cx="568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昼出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/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耘田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/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夜绩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村庄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/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儿女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/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各当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童孙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/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未解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/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供耕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也傍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/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桑阴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/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学种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3420720" y="1484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四时田园杂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4572000" y="2060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范成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高山流水.wma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9"/>
          <p:cNvSpPr/>
          <p:nvPr/>
        </p:nvSpPr>
        <p:spPr>
          <a:xfrm>
            <a:off x="1258920" y="558972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放声自由读诗，想象其意境，体会农民一家辛勤劳动的生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179280" y="907920"/>
            <a:ext cx="8748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着友人拿走自己的劳动果实，心里自然特别（   ）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兴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了暴雨，邻家的墙倒了，菊秧被砸死（  ）多种，一百多棵。全家好几天没有笑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十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十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（）有（），有（）有（），有（）有（），有（）有（），既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就是养花的乐趣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作思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分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总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分总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755640" y="0"/>
            <a:ext cx="7704000" cy="916920"/>
          </a:xfrm>
          <a:prstGeom prst="rect">
            <a:avLst/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朗读课文思考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20105261185738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250920" y="1700280"/>
            <a:ext cx="7705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谢谢同学们认真学习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下节课再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8aafa702956312457bec2c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09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96B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413710preview2"/>
          <p:cNvPicPr/>
          <p:nvPr/>
        </p:nvPicPr>
        <p:blipFill>
          <a:blip r:embed="rId4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6" descr="2008113143143395_2"/>
          <p:cNvPicPr/>
          <p:nvPr/>
        </p:nvPicPr>
        <p:blipFill>
          <a:blip r:embed="rId5"/>
          <a:stretch/>
        </p:blipFill>
        <p:spPr>
          <a:xfrm>
            <a:off x="0" y="423720"/>
            <a:ext cx="9144000" cy="64342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7" descr="2977424_173623019_2"/>
          <p:cNvPicPr/>
          <p:nvPr/>
        </p:nvPicPr>
        <p:blipFill>
          <a:blip r:embed="rId6"/>
          <a:stretch/>
        </p:blipFill>
        <p:spPr>
          <a:xfrm>
            <a:off x="0" y="0"/>
            <a:ext cx="9221760" cy="6858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8" descr="200761513438597_2"/>
          <p:cNvPicPr/>
          <p:nvPr/>
        </p:nvPicPr>
        <p:blipFill>
          <a:blip r:embed="rId7"/>
          <a:stretch/>
        </p:blipFill>
        <p:spPr>
          <a:xfrm>
            <a:off x="0" y="0"/>
            <a:ext cx="9221760" cy="6858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9" descr="096"/>
          <p:cNvPicPr/>
          <p:nvPr/>
        </p:nvPicPr>
        <p:blipFill>
          <a:blip r:embed="rId8"/>
          <a:stretch/>
        </p:blipFill>
        <p:spPr>
          <a:xfrm>
            <a:off x="79200" y="0"/>
            <a:ext cx="9142560" cy="69372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0" descr="293039_095000515000_2"/>
          <p:cNvPicPr/>
          <p:nvPr/>
        </p:nvPicPr>
        <p:blipFill>
          <a:blip r:embed="rId9"/>
          <a:stretch/>
        </p:blipFill>
        <p:spPr>
          <a:xfrm>
            <a:off x="0" y="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1" descr="1915_12671950737pmM"/>
          <p:cNvPicPr/>
          <p:nvPr/>
        </p:nvPicPr>
        <p:blipFill>
          <a:blip r:embed="rId10"/>
          <a:stretch/>
        </p:blipFill>
        <p:spPr>
          <a:xfrm>
            <a:off x="0" y="1440"/>
            <a:ext cx="9220320" cy="69357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2" descr="20091112234420501"/>
          <p:cNvPicPr/>
          <p:nvPr/>
        </p:nvPicPr>
        <p:blipFill>
          <a:blip r:embed="rId11"/>
          <a:stretch/>
        </p:blipFill>
        <p:spPr>
          <a:xfrm>
            <a:off x="0" y="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611" name="在水中央 古筝 纯音乐.mp3" descr=""/>
          <p:cNvPicPr/>
          <p:nvPr/>
        </p:nvPicPr>
        <p:blipFill>
          <a:blip r:embed="rId1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2" name="WordArt 14"/>
          <p:cNvSpPr txBox="1"/>
          <p:nvPr/>
        </p:nvSpPr>
        <p:spPr>
          <a:xfrm>
            <a:off x="1042920" y="2565360"/>
            <a:ext cx="6858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这节课我们一起来学习</a:t>
            </a:r>
            <a:endParaRPr b="1" lang="en-US" sz="5400" spc="1" strike="noStrike">
              <a:ln w="1260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范成大的另一首田园诗</a:t>
            </a:r>
            <a:endParaRPr b="1" lang="en-US" sz="5400" spc="1" strike="noStrike">
              <a:ln w="1260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9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3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6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155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1155" fill="hold"/>
                                        <p:tgtEl>
                                          <p:spTgt spid="6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1155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1155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6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2" nodeType="after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3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348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54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3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5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3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62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3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45515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田 园 诗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4000" y="2666520"/>
            <a:ext cx="828036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咏田园生活的诗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以农村景物和农民、木人、渔父等人的劳动为题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格清新淳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1187280" y="2205000"/>
            <a:ext cx="684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梅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金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杏子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麦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雪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菜花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日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篱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无人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惟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蜻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楷体"/>
              </a:rPr>
              <a:t>蛱蝶飞。</a:t>
            </a: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539640" y="53352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楷体"/>
              </a:rPr>
              <a:t>四时田园杂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楷体"/>
              </a:rPr>
              <a:t>       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华文楷体"/>
              </a:rPr>
              <a:t>--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楷体"/>
              </a:rPr>
              <a:t>范成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5"/>
          <p:cNvSpPr/>
          <p:nvPr/>
        </p:nvSpPr>
        <p:spPr>
          <a:xfrm>
            <a:off x="521964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6"/>
          <p:cNvSpPr/>
          <p:nvPr/>
        </p:nvSpPr>
        <p:spPr>
          <a:xfrm>
            <a:off x="4716360" y="5013360"/>
            <a:ext cx="1079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77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77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77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9" dur="77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3" dur="77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5"/>
          <p:cNvSpPr/>
          <p:nvPr/>
        </p:nvSpPr>
        <p:spPr>
          <a:xfrm>
            <a:off x="2340000" y="19890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梅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金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杏子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麦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雪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菜花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3059280" y="189000"/>
            <a:ext cx="3168360" cy="916920"/>
          </a:xfrm>
          <a:prstGeom prst="rect">
            <a:avLst/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  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7" descr="MCj04377910000[1]"/>
          <p:cNvPicPr/>
          <p:nvPr/>
        </p:nvPicPr>
        <p:blipFill>
          <a:blip r:embed="rId1"/>
          <a:stretch/>
        </p:blipFill>
        <p:spPr>
          <a:xfrm>
            <a:off x="755640" y="5157720"/>
            <a:ext cx="1544760" cy="1357560"/>
          </a:xfrm>
          <a:prstGeom prst="rect">
            <a:avLst/>
          </a:prstGeom>
          <a:ln w="0">
            <a:noFill/>
          </a:ln>
        </p:spPr>
      </p:pic>
      <p:sp>
        <p:nvSpPr>
          <p:cNvPr id="622" name="WordArt 8"/>
          <p:cNvSpPr txBox="1"/>
          <p:nvPr/>
        </p:nvSpPr>
        <p:spPr>
          <a:xfrm>
            <a:off x="684360" y="1413000"/>
            <a:ext cx="3733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读一读，想一想。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468360" y="3284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诗句中描写了哪几种事物？它们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684360" y="3933720"/>
            <a:ext cx="7632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梅子、杏子、麦花、菜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梅子金黄、杏子肥、麦花雪白、菜花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2484360" y="5218200"/>
            <a:ext cx="60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是从哪些方面进行描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颜色、形状、情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77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77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3" dur="77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6" descr=""/>
          <p:cNvPicPr/>
          <p:nvPr/>
        </p:nvPicPr>
        <p:blipFill>
          <a:blip r:embed="rId1"/>
          <a:srcRect l="22884" t="34247" r="24903" b="14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7"/>
          <p:cNvSpPr/>
          <p:nvPr/>
        </p:nvSpPr>
        <p:spPr>
          <a:xfrm>
            <a:off x="5148360" y="1773360"/>
            <a:ext cx="374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同学们，你们都学过哪些古诗呢？谁愿意来背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今天，咱们再来共同学习一首古诗，题目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4"/>
          <p:cNvSpPr/>
          <p:nvPr/>
        </p:nvSpPr>
        <p:spPr>
          <a:xfrm>
            <a:off x="2195640" y="1125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梅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金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杏子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麦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雪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菜花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468360" y="2708280"/>
            <a:ext cx="820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梅子已经变成金黄色，杏子也越长越大了，麦花一片雪白，金灿灿的油菜花已经落去，显得稀稀疏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这两句从正面写出了南方农村景物的特点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有花有果、有色有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77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770" fill="hold"/>
                                        <p:tgtEl>
                                          <p:spTgt spid="6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2195640" y="1125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日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篱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无人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惟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蜻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蛱蝶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468360" y="2708280"/>
            <a:ext cx="820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夏天白天很长，篱笆墙外无人走过，四周静悄悄的，只有蜻蜓和蝴蝶在绕着篱笆飞来飞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后两句描写乡村的寂静，从侧面衬托了农村繁忙的劳动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77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770" fill="hold"/>
                                        <p:tgtEl>
                                          <p:spTgt spid="6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6840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梅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金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杏子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麦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雪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菜花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篱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人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惟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蜻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蛱蝶飞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468360" y="3357720"/>
            <a:ext cx="820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这首诗描写了农村初夏的自然景色，表达了作者热爱自然、热爱生活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在描写方法上采用了以动衬静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77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77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77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4" dur="77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6" dur="77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8" dur="77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77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77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7" dur="77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9" dur="77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5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4"/>
          <p:cNvSpPr/>
          <p:nvPr/>
        </p:nvSpPr>
        <p:spPr>
          <a:xfrm>
            <a:off x="539640" y="53352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楷体"/>
              </a:rPr>
              <a:t>四时田园杂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楷体"/>
              </a:rPr>
              <a:t>       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华文楷体"/>
              </a:rPr>
              <a:t>--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楷体"/>
              </a:rPr>
              <a:t>范成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4858920" y="1916280"/>
            <a:ext cx="38163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金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杏子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麦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雪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菜花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篱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人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蜻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蛱蝶飞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539640" y="1916280"/>
            <a:ext cx="3816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耘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夜绩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村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当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童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耕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桑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种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539640" y="407664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第一首诗描绘了农民劳动的情景；第二首描绘了初夏农村美丽的自然风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从第一首诗中我们不但体会到农村男女老少都热爱劳动，还充满了乐趣；第二首诗让我们感受到了田园之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77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770" fill="hold"/>
                                        <p:tgtEl>
                                          <p:spTgt spid="6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77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77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77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77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5" dur="77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7" dur="77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77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77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6" dur="77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8" dur="77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77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77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4" descr="拓展学习"/>
          <p:cNvPicPr/>
          <p:nvPr/>
        </p:nvPicPr>
        <p:blipFill>
          <a:blip r:embed="rId1"/>
          <a:stretch/>
        </p:blipFill>
        <p:spPr>
          <a:xfrm>
            <a:off x="611280" y="836640"/>
            <a:ext cx="2006640" cy="49536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5"/>
          <p:cNvSpPr/>
          <p:nvPr/>
        </p:nvSpPr>
        <p:spPr>
          <a:xfrm>
            <a:off x="684360" y="1557360"/>
            <a:ext cx="777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在古代也有许多文人墨客都很喜欢亲近大自然，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欢田园生活，如陶渊明、杨万里等。老师这里再提供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首诗人们在田园生活中写下的诗让大家欣赏学习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1476360" y="3357720"/>
            <a:ext cx="619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隶书"/>
              </a:rPr>
              <a:t>    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夏时田园杂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                           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范成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黄尘行客汗如浆，少住侬家漱口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借与门前盘石坐，柳阴亭午正风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4"/>
          <p:cNvSpPr/>
          <p:nvPr/>
        </p:nvSpPr>
        <p:spPr>
          <a:xfrm>
            <a:off x="2916360" y="1700280"/>
            <a:ext cx="67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过故人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                        </a:t>
            </a: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孟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故人具鸡黍，邀我至田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绿树村边合，青山郭外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开轩面场圃，把酒话桑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待到重阳日，还来就菊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5" descr="拓展学习"/>
          <p:cNvPicPr/>
          <p:nvPr/>
        </p:nvPicPr>
        <p:blipFill>
          <a:blip r:embed="rId1"/>
          <a:stretch/>
        </p:blipFill>
        <p:spPr>
          <a:xfrm>
            <a:off x="611280" y="836640"/>
            <a:ext cx="2006640" cy="4953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27gg"/>
          <p:cNvPicPr/>
          <p:nvPr/>
        </p:nvPicPr>
        <p:blipFill>
          <a:blip r:embed="rId2"/>
          <a:stretch/>
        </p:blipFill>
        <p:spPr>
          <a:xfrm>
            <a:off x="971640" y="2349360"/>
            <a:ext cx="26636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4" descr=""/>
          <p:cNvPicPr/>
          <p:nvPr/>
        </p:nvPicPr>
        <p:blipFill>
          <a:blip r:embed="rId1"/>
          <a:srcRect l="22688" t="34247" r="32345" b="194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6"/>
          <p:cNvSpPr/>
          <p:nvPr/>
        </p:nvSpPr>
        <p:spPr>
          <a:xfrm>
            <a:off x="250920" y="1628640"/>
            <a:ext cx="40338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宿新市徐公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杨万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篱落疏疏一径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树头花落未成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儿童急走追黄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飞入菜花无处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77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770" fill="hold"/>
                                        <p:tgtEl>
                                          <p:spTgt spid="6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6" dur="77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324000" y="76500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同学们，你们想一想，还有哪些描写四时的诗句呢？请按春、夏、秋、冬各写一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539640" y="2266920"/>
            <a:ext cx="8209080" cy="58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春色满园关不住，一枝红杏出墙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                            </a:t>
            </a:r>
            <a:r>
              <a:rPr b="1" lang="en-US" sz="3200" spc="-1" strike="noStrike">
                <a:solidFill>
                  <a:srgbClr val="669900"/>
                </a:solidFill>
                <a:latin typeface="隶书"/>
                <a:ea typeface="隶书"/>
              </a:rPr>
              <a:t>---</a:t>
            </a: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叶绍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接天莲叶无穷碧，映日荷花别样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                            </a:t>
            </a:r>
            <a:r>
              <a:rPr b="1" lang="en-US" sz="3200" spc="-1" strike="noStrike">
                <a:solidFill>
                  <a:srgbClr val="669900"/>
                </a:solidFill>
                <a:latin typeface="隶书"/>
                <a:ea typeface="隶书"/>
              </a:rPr>
              <a:t>---</a:t>
            </a: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杨万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月落乌啼霜满天，江枫渔火对愁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                          </a:t>
            </a:r>
            <a:r>
              <a:rPr b="1" lang="en-US" sz="3200" spc="-1" strike="noStrike">
                <a:solidFill>
                  <a:srgbClr val="669900"/>
                </a:solidFill>
                <a:latin typeface="隶书"/>
                <a:ea typeface="隶书"/>
              </a:rPr>
              <a:t>---</a:t>
            </a: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张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孤舟蓑笠翁，独钓寒江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                            </a:t>
            </a:r>
            <a:r>
              <a:rPr b="1" lang="en-US" sz="3200" spc="-1" strike="noStrike">
                <a:solidFill>
                  <a:srgbClr val="669900"/>
                </a:solidFill>
                <a:latin typeface="隶书"/>
                <a:ea typeface="隶书"/>
              </a:rPr>
              <a:t>---</a:t>
            </a: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柳宗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5" descr="5-11-2-1_clip_image002"/>
          <p:cNvPicPr/>
          <p:nvPr/>
        </p:nvPicPr>
        <p:blipFill>
          <a:blip r:embed="rId1"/>
          <a:stretch/>
        </p:blipFill>
        <p:spPr>
          <a:xfrm>
            <a:off x="324000" y="692280"/>
            <a:ext cx="3927240" cy="561636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7"/>
          <p:cNvSpPr/>
          <p:nvPr/>
        </p:nvSpPr>
        <p:spPr>
          <a:xfrm>
            <a:off x="4284720" y="98100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作者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4427640" y="1773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范成大，字致能，号石湖居士，南宋诗人。他的诗作大部分反映农村生活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四时田园杂兴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共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首，本文选用了其中的两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059280" y="260280"/>
            <a:ext cx="3168360" cy="916920"/>
          </a:xfrm>
          <a:prstGeom prst="rect">
            <a:avLst/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生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395280" y="1484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908000" y="1484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ji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3708360" y="1484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ī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5435640" y="1484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í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7380360" y="14842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i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395280" y="2349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"/>
          <p:cNvSpPr/>
          <p:nvPr/>
        </p:nvSpPr>
        <p:spPr>
          <a:xfrm>
            <a:off x="1908000" y="2349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"/>
          <p:cNvSpPr/>
          <p:nvPr/>
        </p:nvSpPr>
        <p:spPr>
          <a:xfrm>
            <a:off x="3708360" y="2349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5435640" y="2349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2"/>
          <p:cNvSpPr/>
          <p:nvPr/>
        </p:nvSpPr>
        <p:spPr>
          <a:xfrm>
            <a:off x="7380360" y="234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3"/>
          <p:cNvSpPr/>
          <p:nvPr/>
        </p:nvSpPr>
        <p:spPr>
          <a:xfrm>
            <a:off x="395280" y="3141720"/>
            <a:ext cx="144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耘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耕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1908000" y="3141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蛱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3708360" y="3141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蜻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5435640" y="3141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蜻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7380360" y="3141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蝴蝶蝶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8"/>
          <p:cNvSpPr/>
          <p:nvPr/>
        </p:nvSpPr>
        <p:spPr>
          <a:xfrm>
            <a:off x="611280" y="543564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9"/>
          <p:cNvSpPr/>
          <p:nvPr/>
        </p:nvSpPr>
        <p:spPr>
          <a:xfrm rot="10800000">
            <a:off x="1258560" y="5086440"/>
            <a:ext cx="103320" cy="1511280"/>
          </a:xfrm>
          <a:custGeom>
            <a:avLst/>
            <a:gdLst>
              <a:gd name="textAreaLeft" fmla="*/ 0 w 103320"/>
              <a:gd name="textAreaRight" fmla="*/ 37440 w 1033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0"/>
          <p:cNvSpPr/>
          <p:nvPr/>
        </p:nvSpPr>
        <p:spPr>
          <a:xfrm>
            <a:off x="1476360" y="5013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dā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ɡ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当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1"/>
          <p:cNvSpPr/>
          <p:nvPr/>
        </p:nvSpPr>
        <p:spPr>
          <a:xfrm>
            <a:off x="1476360" y="6021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dà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ɡ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当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2"/>
          <p:cNvSpPr/>
          <p:nvPr/>
        </p:nvSpPr>
        <p:spPr>
          <a:xfrm>
            <a:off x="5722920" y="5435640"/>
            <a:ext cx="3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23"/>
          <p:cNvSpPr/>
          <p:nvPr/>
        </p:nvSpPr>
        <p:spPr>
          <a:xfrm rot="10800000">
            <a:off x="6370560" y="5086440"/>
            <a:ext cx="77760" cy="1511280"/>
          </a:xfrm>
          <a:custGeom>
            <a:avLst/>
            <a:gdLst>
              <a:gd name="textAreaLeft" fmla="*/ 0 w 77760"/>
              <a:gd name="textAreaRight" fmla="*/ 28080 w 777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4"/>
          <p:cNvSpPr/>
          <p:nvPr/>
        </p:nvSpPr>
        <p:spPr>
          <a:xfrm>
            <a:off x="6588000" y="501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jiě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解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5"/>
          <p:cNvSpPr/>
          <p:nvPr/>
        </p:nvSpPr>
        <p:spPr>
          <a:xfrm>
            <a:off x="6588000" y="602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xiè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解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3059280" y="260280"/>
            <a:ext cx="3168360" cy="916920"/>
          </a:xfrm>
          <a:prstGeom prst="rect">
            <a:avLst/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题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5148360" y="227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7"/>
          <p:cNvSpPr/>
          <p:nvPr/>
        </p:nvSpPr>
        <p:spPr>
          <a:xfrm>
            <a:off x="5867280" y="1773360"/>
            <a:ext cx="32767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而发的兴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2916360" y="162864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四时田园杂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 flipH="1">
            <a:off x="2700000" y="2276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0"/>
          <p:cNvSpPr/>
          <p:nvPr/>
        </p:nvSpPr>
        <p:spPr>
          <a:xfrm>
            <a:off x="179280" y="1773360"/>
            <a:ext cx="2519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年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4284720" y="227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464328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3"/>
          <p:cNvSpPr/>
          <p:nvPr/>
        </p:nvSpPr>
        <p:spPr>
          <a:xfrm>
            <a:off x="3708360" y="2781360"/>
            <a:ext cx="208764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农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468360" y="4581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时田园杂兴指一年四季不同的田园景色而产生的感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2771640" y="3068640"/>
            <a:ext cx="568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昼出</a:t>
            </a: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耘田</a:t>
            </a: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夜绩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村庄</a:t>
            </a: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儿女</a:t>
            </a: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各当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童孙</a:t>
            </a: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未解</a:t>
            </a: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供耕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也傍</a:t>
            </a: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桑阴</a:t>
            </a: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学种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2987640" y="14320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四时田园杂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5076720" y="2060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---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范成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3059280" y="189000"/>
            <a:ext cx="3168360" cy="916920"/>
          </a:xfrm>
          <a:prstGeom prst="rect">
            <a:avLst/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朗诵诗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1"/>
          <p:cNvSpPr/>
          <p:nvPr/>
        </p:nvSpPr>
        <p:spPr>
          <a:xfrm>
            <a:off x="5508720" y="17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2"/>
          <p:cNvSpPr/>
          <p:nvPr/>
        </p:nvSpPr>
        <p:spPr>
          <a:xfrm>
            <a:off x="5796000" y="1484280"/>
            <a:ext cx="86364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xì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3"/>
          <p:cNvSpPr/>
          <p:nvPr/>
        </p:nvSpPr>
        <p:spPr>
          <a:xfrm flipV="1">
            <a:off x="550872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14"/>
          <p:cNvSpPr/>
          <p:nvPr/>
        </p:nvSpPr>
        <p:spPr>
          <a:xfrm>
            <a:off x="5076720" y="2565360"/>
            <a:ext cx="1008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j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5"/>
          <p:cNvSpPr/>
          <p:nvPr/>
        </p:nvSpPr>
        <p:spPr>
          <a:xfrm flipV="1">
            <a:off x="406728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6"/>
          <p:cNvSpPr/>
          <p:nvPr/>
        </p:nvSpPr>
        <p:spPr>
          <a:xfrm>
            <a:off x="3564000" y="2565360"/>
            <a:ext cx="1008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y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4"/>
          <p:cNvSpPr/>
          <p:nvPr/>
        </p:nvSpPr>
        <p:spPr>
          <a:xfrm>
            <a:off x="684360" y="765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小声自读，边想边画：诗中都写了哪些人物？他们分别在干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900000" y="2205000"/>
            <a:ext cx="4103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昼出耘田夜绩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村庄儿女各当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童孙未解供耕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也傍桑阴学种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4067280" y="2997360"/>
            <a:ext cx="47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村庄儿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耘田 织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童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学种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4"/>
          <p:cNvSpPr/>
          <p:nvPr/>
        </p:nvSpPr>
        <p:spPr>
          <a:xfrm>
            <a:off x="1476360" y="9079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理解词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539640" y="1916280"/>
            <a:ext cx="7705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隶书"/>
              </a:rPr>
              <a:t>昼 出 耘 田 夜 绩 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隶书"/>
              </a:rPr>
              <a:t>村 庄 儿 女 各 当 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隶书"/>
              </a:rPr>
              <a:t>童 孙 未 解 供 耕 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隶书"/>
              </a:rPr>
              <a:t>也 傍 桑 阴 学 种 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4427640" y="1773360"/>
            <a:ext cx="504036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词语理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昼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白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耘田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除去田里的杂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各当家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各人有自己的活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童孙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幼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未解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不懂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供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从事，参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傍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靠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桑阴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桑树下的阴凉处。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5a1ecfa70ddfff759152eeb3"/>
          <p:cNvPicPr/>
          <p:nvPr/>
        </p:nvPicPr>
        <p:blipFill>
          <a:blip r:embed="rId1"/>
          <a:stretch/>
        </p:blipFill>
        <p:spPr>
          <a:xfrm>
            <a:off x="-146160" y="-69840"/>
            <a:ext cx="9366480" cy="700416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"/>
          <p:cNvSpPr/>
          <p:nvPr/>
        </p:nvSpPr>
        <p:spPr>
          <a:xfrm>
            <a:off x="380880" y="33336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昼出耘田夜绩麻，村庄儿女各当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2009113036188569"/>
          <p:cNvPicPr/>
          <p:nvPr/>
        </p:nvPicPr>
        <p:blipFill>
          <a:blip r:embed="rId2"/>
          <a:stretch/>
        </p:blipFill>
        <p:spPr>
          <a:xfrm>
            <a:off x="250920" y="1413000"/>
            <a:ext cx="4343400" cy="405756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pic>
        <p:nvPicPr>
          <p:cNvPr id="552" name="Picture 5" descr="2010012137916977"/>
          <p:cNvPicPr/>
          <p:nvPr/>
        </p:nvPicPr>
        <p:blipFill>
          <a:blip r:embed="rId3"/>
          <a:stretch/>
        </p:blipFill>
        <p:spPr>
          <a:xfrm>
            <a:off x="4932360" y="1413000"/>
            <a:ext cx="4038480" cy="405756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53" name="Text Box 6"/>
          <p:cNvSpPr/>
          <p:nvPr/>
        </p:nvSpPr>
        <p:spPr>
          <a:xfrm>
            <a:off x="250920" y="5661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白天除田里的杂草，夜里把麻搓成麻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79280" y="62784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村里的青年男女都各自为家庭承担一定的责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7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70" fill="hold"/>
                                        <p:tgtEl>
                                          <p:spTgt spid="5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6:46:37Z</dcterms:created>
  <dc:creator/>
  <dc:description>
</dc:description>
  <cp:keywords/>
  <dc:language>en-US</dc:language>
  <cp:lastModifiedBy>微软用户</cp:lastModifiedBy>
  <dcterms:modified xsi:type="dcterms:W3CDTF">2022-01-25T04:19:15Z</dcterms:modified>
  <cp:revision>15</cp:revision>
  <dc:subject/>
  <dc:title>幻灯片 1</dc:title>
</cp:coreProperties>
</file>